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C0D-1D73-446B-98C8-4D805D03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A54-0BD6-4D6D-8F96-9C8C4F67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58C-04A4-4DE7-83D4-4D77D1C2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965-F728-45D1-8E04-9F8FD5BA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A48-4189-4BFF-A2E0-1527469E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5B4-9C52-4D28-ABDC-BB3D09C8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BFE-B455-4485-B581-BB8E5DDA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A8F-1BEE-43D6-9F3F-9E28A36F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5D0-C538-4979-A01F-3EECCC9F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6C69-4BDC-4F03-8942-D24CF5AF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8FF-8A31-462F-8149-FE165DB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C1AC-C711-4A2C-963A-0C866233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90EE-E103-4591-BD62-197FF9CF4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57520" y="0"/>
            <a:ext cx="5586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34290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لا لن أرى حباً أعظم وأقوى من حبك فوق الصليب يا سيد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اخترتَه طوعا...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وهو عقابٌ عادلٌ  لآثم متمر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297180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لُمنا وعيَّرنا بطرس بالجبن يومَ أَنكرك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</a:rPr>
              <a:t>كلُّنا  قد قلنا خائن ليهوذا حين أسلمك</a:t>
            </a:r>
            <a:r>
              <a:rPr b="0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11010960" cy="7924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352680" cy="9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نحن اليوم أمامَ الناس نستحي بك ننكر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طعتين من النحاس مثل يهوذا نُسلم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رغم ذاك ... نحن نراك... تنسى أساك... 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حبك المتجدد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3733920" cy="87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الجمع كان ينادي لباراباس يطلق بالإفرا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صلبَك كان مطلبهم أن تُجلد أنت بالكرباج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4191120" cy="9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اكموك عيّروك حمّلوك صليب الع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بين لصوص علّقوك أيها القدوس الب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ورغم ذاك ... نحن نراك... تنسى أساك...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حبك المتجدد</a:t>
            </a:r>
            <a:r>
              <a:rPr b="0" lang="ar-SA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3352680" cy="9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شاةٍ تُساقُ للذبح لم تفتح فاك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كنعجةٍ صامتةٍ اقتادوكَ للصلب هناك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في الجلجلة فوق الصليب في الجلجل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0:43:39Z</dcterms:created>
  <dc:creator>SUZANNE.MD</dc:creator>
  <dc:description/>
  <dc:language>en-US</dc:language>
  <cp:lastModifiedBy>HANI SAFI</cp:lastModifiedBy>
  <dcterms:modified xsi:type="dcterms:W3CDTF">2003-03-17T14:23:37Z</dcterms:modified>
  <cp:revision>7</cp:revision>
  <dc:subject/>
  <dc:title>PowerPoint Presentation</dc:title>
</cp:coreProperties>
</file>